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4.gif" ContentType="image/gif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5.png" ContentType="image/png"/>
  <Override PartName="/ppt/media/drumroll.wav" ContentType="audio/x-wav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0229-FCD8-48F0-A7E9-CF37E1935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CC5A-37C8-4FE1-93B7-902279F87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BE1-D382-4549-AC47-EDD7EBE7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D95-C8F1-4A25-ABE9-5ED6ACA8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778-594C-4046-8C62-C2485190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D3A-8E9F-4F1C-9E0A-9B6A2A9E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35B5-1003-4228-9D05-919123BB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FDD3-E369-40F5-87F8-56500782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0D44-65D7-444E-863C-B960852F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59F4-A2EE-43CD-AC98-B15D282A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FF3C-DB65-409E-9700-5068C76B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9688-5EA2-4CAA-9BAF-E33FA27D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2E72-6937-45B9-9966-D4CE06A7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DCA-C881-4699-AD5F-2CB5059C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90BB-5921-419D-A1A2-910D5663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20EB-DD45-4693-944B-9C1CBCF5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357A-0CE0-424C-86EE-04B4B319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6400-2039-4E6D-9708-7D40BB84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5F12-B937-48EE-AC9A-B853D8BF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7EF4-09A2-4144-BBCC-B25AA9AB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850A-F69C-4C0D-B1AB-156884AC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375D5-1F98-457C-A1CB-696E1B33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51433-BF9C-4A7C-B893-74DC2255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C1E25-E11C-495F-B7B3-7117BBDB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5A06-793D-41F0-B731-C10B5967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33D82-D243-43E2-8912-EAF7039D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4E5B9-A3CA-4240-9ADD-E31B2384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EFDB8-C45C-40D8-A22F-BF99BB8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A1AB-5154-4F33-85C5-D149CF9E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0120-232C-4DD9-A8D3-06CA31A8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42A5-6043-42A3-BBEA-B179FFFA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0CAA1-B067-4711-941B-E062D9D6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83CFF-9F73-409C-B850-A52123DE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0FB9D-8BA8-46ED-8DFD-1605787A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F6BED-FBEE-44F7-BF10-B16AAC58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5D8-2E16-439E-974F-B8917446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0866C-6A01-4095-A564-DFD9879A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697C-5C19-4712-BF0E-15A409FD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171E-73AF-490F-B0C6-7C2F047E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16043-71BF-49CF-B2CF-8B1AAE6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D6902-65C5-4D50-948C-EED803C1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09E69-2055-401E-AE51-A099D011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62015-EAAE-4B11-B68B-A1DE237B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8EC37-BD47-4976-857E-03FFB8EA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548BF-E29F-42B5-AC16-969C2FE3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610-60F6-4E8A-A53B-0A50FDCE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8EE-945D-4370-85D3-FCE4BA98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D64-8237-4132-92FC-16A47F75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7A1-0DE7-446A-B203-AEB6F3D6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517-4A8E-4FEE-90F1-E1A49EE9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FCE9-1DA9-44EF-A361-19186AAAFC8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6F45-632B-4040-82A8-3F9C9BA3E84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1B63-167B-4B2A-8722-826067F0F6F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3876-D474-49D8-BC13-A67053CD91A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RUSSIA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’</a:t>
            </a: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S  ECONOMY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y Allessandra Toscanini, Darren Chau, and Skerdilaid Hoti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5000">
    <p:wheel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P4240116"/>
          <p:cNvPicPr/>
          <p:nvPr/>
        </p:nvPicPr>
        <p:blipFill>
          <a:blip r:embed="rId1"/>
          <a:stretch/>
        </p:blipFill>
        <p:spPr>
          <a:xfrm>
            <a:off x="3962520" y="4419720"/>
            <a:ext cx="3200400" cy="1981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1607potatoes"/>
          <p:cNvPicPr/>
          <p:nvPr/>
        </p:nvPicPr>
        <p:blipFill>
          <a:blip r:embed="rId3"/>
          <a:stretch/>
        </p:blipFill>
        <p:spPr>
          <a:xfrm>
            <a:off x="2590920" y="1981080"/>
            <a:ext cx="3047760" cy="20671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Foods produced in Russ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514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ato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gar bee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rl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a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stockphotopro_36014208UKD_no_title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40543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anufacturing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257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. Petersburg is a shipbuilding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manufacturing centers are in western Russ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focus on heavy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factories switched to light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in St. Petersburg make light machinery, textiles, and scientific and medical equi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’s 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role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04960" y="1904760"/>
            <a:ext cx="5111640" cy="43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C:\Users\cool\AppData\Local\Microsoft\Windows\Temporary Internet Files\Content.IE5\2IUTAM3Y\MP900289272[1].jpg"/>
          <p:cNvPicPr/>
          <p:nvPr/>
        </p:nvPicPr>
        <p:blipFill>
          <a:blip r:embed="rId1"/>
          <a:stretch/>
        </p:blipFill>
        <p:spPr>
          <a:xfrm>
            <a:off x="4208400" y="2209680"/>
            <a:ext cx="3411720" cy="266724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’s 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production growth  rate 13.1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als are used to make advanced air crafts, ships , missi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ensive technology include radars, and advanced electronics components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dical and scientific industry include textiles, handicrafts, foodstuff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ad and rail transportation include communication equipment, tractors and construction equipmen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Users\cool\AppData\Local\Microsoft\Windows\Temporary Internet Files\Content.IE5\2IUTAM3Y\MP900390146[1].jpg"/>
          <p:cNvPicPr/>
          <p:nvPr/>
        </p:nvPicPr>
        <p:blipFill>
          <a:blip r:embed="rId1"/>
          <a:stretch/>
        </p:blipFill>
        <p:spPr>
          <a:xfrm>
            <a:off x="5334120" y="1828800"/>
            <a:ext cx="2895480" cy="365760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he  Volga and Urals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828440"/>
            <a:ext cx="40384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lg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ries almost one-half of Russia’s river traffi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 provides water for irrigation and for hydroelectric pow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home of Russia’s most productive farmlan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8284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r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ers mine bauxite for aluminum, copper, gold, lead and 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energy resources such as coal, oil, and 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cow  is Russia’s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Users\cool\AppData\Local\Microsoft\Windows\Temporary Internet Files\Content.IE5\04V09QGG\MC900101208[1].wmf"/>
          <p:cNvPicPr/>
          <p:nvPr/>
        </p:nvPicPr>
        <p:blipFill>
          <a:blip r:embed="rId1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's port c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ssia has 5 important ports c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ningrad, and St. Petersburg. Murmansk, Vladivostok, and Astrakh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ningrad has eliminated all taxes on shipping goo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. Petersburg makes light machinery, textiles, scientific, and medical equipmen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the other port cities trade bring goods to Russ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2" descr="news-StPetersburgAnnounced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:\Users\cool\AppData\Local\Microsoft\Windows\Temporary Internet Files\Content.IE5\T29BWV2O\MM900283225[1].gif"/>
          <p:cNvPicPr/>
          <p:nvPr/>
        </p:nvPicPr>
        <p:blipFill>
          <a:blip r:embed="rId2"/>
          <a:stretch/>
        </p:blipFill>
        <p:spPr>
          <a:xfrm>
            <a:off x="2971800" y="548640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603360" y="1725480"/>
            <a:ext cx="7864200" cy="2700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0000">
    <p:wheel/>
    <p:sndAc>
      <p:stSnd>
        <p:snd r:embed="rId2" name="applause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cool</cp:lastModifiedBy>
  <dcterms:modified xsi:type="dcterms:W3CDTF">2010-12-21T01:00:19Z</dcterms:modified>
  <cp:revision>40</cp:revision>
  <dc:subject/>
  <dc:title>Economy</dc:title>
</cp:coreProperties>
</file>